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9AD-0971-48DF-8E9B-F344385C0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597-1FF7-4D89-BD40-09EDC24A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06A02-AB30-433B-B53A-C3172646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80A12-2603-47C3-BE89-992C8DD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77C2B-150A-484C-8A68-6CABC43F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5A3C-1265-4AA2-828D-200FFB5E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5C9E3-365E-4AFC-A6A8-DA499E4A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3733-4C3E-4F9C-A692-33D9EC7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78575-88AE-4822-AA8C-3AC351D3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1F4E7-CE7E-4A33-9E4E-8BF09457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652EA-DB92-45D8-98AE-FB5AACE9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0184E-066F-4665-BB45-3215EB88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201-6CEA-4E23-8065-099F5302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04AA2-29B9-42F5-B4D8-DD330003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64376-B9EF-43C1-9436-0A43E027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235C4-2344-410A-9E20-FFDFBC9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D2A51-32EF-42D8-A9F7-69383589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03B4-2683-4239-BA57-F8F3D6A9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22B2B-54EE-4BD8-9B94-AD22677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8E6F3-E3F3-4754-8854-0494EE37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B79F0-9812-4B4B-A7EC-D6A79D6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578B-4926-4855-B74E-087DA0B1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9F214-3D20-443E-AC86-8FAC77FD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33C-D0F8-4671-9065-0FDE557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EF12D-707C-47B2-A870-8771A67F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6E14F-3D42-4456-AEF4-D5DA25F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D6C1A-9749-43E2-883B-0BF882D9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91A5-5C51-41E0-93E0-5023131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9E019-05E1-4E3F-AC1F-3582B4E4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7E494-A93B-4B3A-B4E5-1F2E8D6C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4EA5-CEB3-49C2-90E7-8F4FFB78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7FF7C-DFF4-4E0A-BFEB-C2548D28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A712F-5761-47F4-93E1-FBD2403C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6DDE-F0FC-4254-A0DC-81FA450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FB9D-0343-4B50-962F-1D68F028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65986-FDFB-4DB3-93B9-4B259CB7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A4DF4-1018-4022-97E1-3CFE21C5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71A9-7348-49AA-BC92-4EB3853F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B92E-62D8-41AF-87F8-CFFAA8F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B2225-B582-4408-9453-B63B2028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660EA-FA32-4E76-9F7A-D50526E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CF2A0-6193-441D-96DB-2D97DAE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16725-E6C8-4971-8630-4443F19E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C5637-475C-44D1-B44D-74AD8316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80B0E-1060-488F-8013-D20BE783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EEA-BBA6-45BF-9F11-FA89D4B5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C6F54-7DD2-4FDE-A971-2C57151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8D6C6-7537-400E-AD2F-5E8E767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87347-7EE9-4689-AAA2-D4C03B8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434F-B162-4BC7-8CFF-D63D11FA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5EF7B-C60F-4FC9-A3B8-37465175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6DAD1-5814-4AD7-A517-6C27039D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11DFD-DF1D-4F3C-9FC7-BB541583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9E772-030A-4E49-90FB-DA95739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28291-3FAE-450F-996F-C8206E7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1B124-2D58-4DCB-90EF-9BD8AE3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2C36-A924-46C4-91ED-F9C12DF0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9FFDA-7407-4F03-A321-306C28E1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E723E-D986-4A12-8551-212F5BC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AD11C-A9E1-46EB-9936-E4DCC449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29752-E8A7-4EE6-B281-C9A83A0E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BB613-3131-4629-9D15-AFEEA4D5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9C0F4-8A98-4D23-A10D-9EEB8935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75F24-0C11-41AE-BB79-40FDAE4E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A194F-8459-4914-8D9F-B4694E02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5468E-992F-404A-9ABE-48E30821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3145B-4F38-44D3-A506-4B1C0C3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0271-2C17-487A-AC23-8DC703BB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8940E-CF91-4677-8D35-BEFE555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D74E7-B5A8-4BA9-B35D-0AC39F86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92559C-DBD0-4E2B-A9B5-08C9585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B322CA-C7A9-46BE-B7AF-44193708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7383E-CBC5-4AD7-851E-B82B0B5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A6469-06E9-48FB-A470-7DC77B9E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4B46A-C935-405B-A081-A7D57E89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395A5-05D6-4FAC-8FD0-93BAADD2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0A4540-DB23-440C-A279-3BA66866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9F7D38-7F7F-4476-8348-84DF9707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327-017D-4AA6-A1B5-2045C963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23219-D236-4AE4-BE6B-311D2633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F40E3C-C553-4B5C-AD27-207C3713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B6E9A-8465-42FD-9EE4-1015560A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DBBA9-5E8C-450C-957C-F3127732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792EF-594E-4E74-B0B6-43024692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32528-96F2-43BF-B529-0726D77B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B2AEA-4B99-4DA9-8142-A1205A74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48334-4730-4CB4-840D-0A8A19B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DB56A-F60F-4A91-AB79-7EA59521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00368-90D0-4F7C-B97E-DA641DA0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E540-5170-4081-A6AF-FFC60B7A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BC946-67E1-4434-9BCC-19C635E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8CB5E-EE65-4BBB-B5D3-2345CFA2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E5B40-D60E-446C-A1A3-D7AFF27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B9464-3BAC-4A7B-8C4B-29AB126F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F8239-E1AE-4EF9-8D1B-EE653D54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B1CCF-7178-4A36-BE6B-2BF9BBE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330B6-C752-4C1B-A0B8-FEEF6C3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022262-2D88-4AAC-B44D-499D2112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CE76E-6AA0-4017-81EA-26CD14B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4E2555-822E-45AD-8838-36313BC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990-A261-46C6-9707-66751650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9530F4-16C4-4895-8B17-AEF3C325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D2177-E94D-4F43-AF64-C6AF563A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7C554-7948-4FA6-ACDF-9552DBF8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DC4E7-A3BD-429E-8BD0-B6F3FCC9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170AD-DD19-4BA2-B47B-9CED98EE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3FBAD-4600-4212-8D9A-C4BFCD13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0CA17-7F92-42D4-AB03-ABA15E09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48DBB7-45CA-45C9-BC0A-F4C7BAD6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32860-1354-4B88-985F-0665122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E9E18-9D55-45F1-80B6-AF3C07F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F02-CD53-40C0-A684-BFAA050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51E0-FEFE-4D3D-9F12-C2258FC8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1CA6D-C94D-41C0-A2EB-2F9C5D35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C9A98-D059-435C-9160-16196BB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BDCAF3-8919-4EB1-AFB7-1B265D25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522E9B-B2E5-40F9-AB3A-19BA863F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A46731-FB01-4E7A-9C3D-AD39FAA2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CA729-E8DC-45C8-9A38-ED8DCAB5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AB968-2028-4CA6-A230-5148BAE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7185A-3F50-4D84-A645-5B69DDA7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4740D1-3CD7-40B2-8832-DBDCA10C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CE504-9886-4C19-9C95-9BCD238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8FFA-8C7E-4404-A268-64D19E1E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9D056-C129-4A0C-9D16-C04CE27E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4E52C-A05C-4755-9D8E-46FA783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E2355-37C2-421A-8037-ECCE5E92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1016A-2CCE-4274-B776-192B7BCD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5D67A4-AD67-4C9E-BE00-2DD9712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02DC2-0763-47DF-980E-42CA40B5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EA7AA-A052-4702-9AE6-AE012CD6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70F45-FA39-4134-8ECB-E9A75310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2123C-C62B-4F9C-B0A8-ADA965DA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6ACCC-DF84-4BF8-8F8E-FC09D01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EC85-75BE-4AAC-BC6F-5F5ACBEB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6A987-9BD7-4389-B828-908FD82F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46CDDD-BB04-4E3B-A0C0-B1E1C5B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06EAB-DEC4-43B3-A371-1341EC59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8DD37D-7991-4D87-89E8-81221FF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5DDA5A-9E25-4C3B-9D04-C3DCC79F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008CB-626C-4AB9-9CF7-DC08F6A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513A1-6F0F-4CF8-A18F-B741836B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CD7D9-AC3B-4116-8CD3-84859E6C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30AFCE-CE83-47A7-A601-31E9538C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B572C4-49FD-4556-8D89-2F859A76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D89F-05C0-48CB-B157-6E9A17FA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9CF31-AB05-42AC-8E4A-9B626A1C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C56A8D-2665-4495-9312-4E7FF0D4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9BADC-7007-4C1C-88E7-5C878174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FD3F6B-F2C0-4CFA-BE6D-F0C6D21C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45513-D7CA-48C4-87F7-4DDA83D0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A8BE5-33CF-43DF-B9DD-F68BF6FE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EDAA9-E981-4C47-AF3D-FB397BF2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30029-0CB9-4AF0-B112-E8EB79F9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4C94B-82EE-4C53-96C7-D682FF13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82F82C-E2FB-49D3-8793-68C44D6D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B437-D0CC-417D-93E7-E63723D7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FD0455-4113-4E06-A3B8-7FEBD049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D4600F-FD6F-4D60-9152-86992802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35E3FD-3FDB-4BE0-90DA-468F1F6F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73DF9-540B-4EFE-BAC3-3D2B533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AC80FF-469C-4BBA-BEFC-FE81C0B0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A4B4C-B260-4F21-A066-754E6AA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7B9998-33DB-4BFE-95E8-3789A1E6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9C6FC2-8F96-4C4A-B83A-62268437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12113F-5139-430C-805D-F10BE26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36EECE-B838-4CC2-B7DB-BCDA24AB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18A1-EF3B-43BF-8E57-517AC7F8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D27377-75AC-43B8-8B96-4ABC55AF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1B9AD-7E1A-429F-B201-E641769B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9AEBD-65EF-4DF7-8FCD-7A5B5344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7103B-C425-45EE-BF22-5A204AFD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ED89-EA38-46A9-9484-C499A5ED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A2D90-9994-475F-8CBC-00904FA1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246D-F167-4D6B-AF1C-3A780A15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9B8-4845-4A02-8A9E-D86C4268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851B-53F1-45ED-8168-B8866FB2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86CBE-2B3E-4C54-B1EF-D016840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5640-BF22-4F8B-9F06-E92B769A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BFA0F-BD7E-4FEB-AA93-6F9B07D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0354B-BECD-4039-AF72-014C39DD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74220-73A5-4EC9-A339-2D2D345C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AD6EC-57DF-4E94-AB49-3B266FA5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E2AD-4122-4B33-90C0-56514D63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CDDC-4482-4868-AD25-6B4C0A0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82AFB-269F-4A33-8997-A09C3FB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653-E545-4EFA-ABE9-DF63C96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33916-D428-46D4-B34B-2F2F8AA5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268DC-2C54-4F72-B0E8-DAA2E953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6D8D9-AF2B-44FC-B0F5-516F480F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C88A5-1C15-4127-9995-7D71D19A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E841-1817-4A6A-8BC7-00DE9D74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DD9A-79F3-4B15-A381-C8FD3A58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8844-D368-4CBA-A5A9-A15FEC1D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C2C8-E286-462E-8329-69BB0B80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6527-7D3B-45C9-BF29-7774582C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53F29-2EA8-44E1-938E-C63888F3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DE2-221E-49AC-A158-A21C2855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FE5C-4A65-4221-89B3-5DAE472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6AD70-0EFB-4E4B-BFB8-56B7B97F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551B0-065D-4622-8CD8-BF384EFB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00E2-D918-476B-9974-1C53F366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B4525-0A09-423C-8D16-1CA5DBBE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709EA-0A6F-4F37-A3BC-599CA5B4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A633-0DD0-4D54-B9D2-6B845EE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DA44A-A1FE-4777-A333-8B849E60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4F44-170C-46DC-B998-D15D2885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8334-CAED-4449-8BEC-768C3AC0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BBA-89F3-4221-8B3F-622C9943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8989-6808-413B-88DD-89FAEFAB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5CB83-5457-4ABC-9726-B1917706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9E8D-A7B3-4074-A774-9225D37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83E8-6E5D-48B8-B811-AF33364A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DF088-BDC7-4431-A1C8-F50B09E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844D1-CB69-492B-AD2D-5479545A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26B16-E8B8-4A06-A2A4-613697EE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21A1-572A-41C3-B131-6D6BF823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7332-1D9C-4BA1-A08E-8245691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04CDA-EB5F-49B9-B638-6D80244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B91-B65D-452D-8EA5-43AE3A85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8665-2EBF-4E72-9787-19C4710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061C6-4F3E-4852-9A0D-88A26DF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8AD6-D295-4048-9578-3D6E713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5FD3-5A2A-4447-8E38-5036E248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F5230-616C-4264-8BF1-76DCDF7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1B2B4-A6F0-40BB-B0FC-BB90DAEA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0969-1708-4015-AF9B-B717C484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05E6-0C54-416D-B27C-2EF08B1E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5FAA3-448E-4A5A-A773-CAF59E7E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4520-3E45-48DE-8517-4154674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78-D594-47B4-BF1D-D97F182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82CA-FC8F-4260-B48F-EB67881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8863C-BFE2-4FD0-8F87-01251A3F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2C05B-2328-495C-84C9-F3BC21DC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F0D8-F51C-41CA-A170-12388389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2EFC2-7849-49A9-8732-0E6D11AD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62085-CB63-490E-A045-DD962AC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46391-3032-4139-8292-51B46F99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9D3C-C735-44CB-B8E3-CF1FA2A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26743-C7E9-4F05-8BE6-9D9A28EA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D84ED-C5DC-4487-BA43-D9072CB5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3FD-CFD3-4D8E-8F33-0E37BBA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FDDDB-D211-4B44-B780-B678424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EF2BD-E832-4874-BB61-7EA4982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D6A3-7D80-4404-BF7F-69191AD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FED2B-EF2B-4FF1-AB1F-455781A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8B393-4A9B-4ECA-ACE4-83D624A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D4709-6ED1-4F0B-BF4C-AA86645B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FA1AA-9453-4298-BE90-6E57BC75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9099F-F0CC-439A-AFD4-8C9FB629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F662E-AB90-4E19-A350-04FC468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DDB8-4917-4F63-8003-590B9B47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03EB-68E5-4A0F-AF07-14CF1E0122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FCBD-5583-420D-8414-E125B043B8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4B2C-5A33-4DDF-8285-EE29E50301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00F-717B-44C4-A43D-1F1A559E80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74F-CD96-4792-958A-B411C23FE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627-7B90-4405-A3C6-64C90F9EB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BB2-DD25-4A18-B1BE-F11F4D3655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05D-E4C5-4607-8759-819D063801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67FF-EC68-411E-BB0B-AACD4CED8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2ED2-ABE1-440A-A6BD-5E03886BA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74F7-7DA9-4B97-B4C5-61429887AE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AFB1-5BE5-49BC-9D2D-5CE106E896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7722-ECD3-4179-ABD1-D61792644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CE5-5F8C-4CD4-80CB-F1CF6DDA9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880-F5F9-4FFF-8576-2FE158CDF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0FF9-A44F-4C6D-9A21-9FA500EC2A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7FCF-5AA3-46AD-8056-218B76303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C859-3788-4793-A384-776346A11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8069-B8DA-4027-BFAE-E595539E83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7B83-E2C9-440B-9523-CA4CEC7A0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4CF-3ABB-4CB3-AC94-ECB8FB360B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D1F-3DCA-4340-8EDC-DF4C3DCC12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07A-F0B4-4DB8-A4AA-40552AFFE8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1A9F-27DA-4811-B9C9-ACC603B5D6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042-886C-41DB-BDE4-D6038C1E8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AF0-3310-4ABC-BB22-379F5F5AE1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AACE-EB19-40AF-BD4F-C7B5E05F62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8E9-88FB-43E6-A97E-92CF57815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029-BC7E-49F0-9B0E-578F8DFB9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A71B-3F4D-4D99-80D1-7D87716B45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D3E6-1E51-49D4-9DDF-639F65BF7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639A-DA52-4CAC-A4C7-DDFCCAAC8A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B520-89C7-424B-B075-2BF949CAB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4793-E230-42DF-80EA-EE44937FCB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834-23B4-445D-823F-D52A67EDFF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48A5-B0DD-42F7-A40C-8DB9562E4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41B3-1645-4A86-85DE-E3300D789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A8E5-4C03-44F2-A8DA-B6DB25847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7DF4-0A29-49D3-B295-15B03C67D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17A0-D2E7-4E00-9F87-C1A5B041B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8040" y="2133720"/>
            <a:ext cx="5047920" cy="112392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47880" y="3641760"/>
            <a:ext cx="3648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952560" y="1268280"/>
            <a:ext cx="7238880" cy="2124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142920" y="3749760"/>
            <a:ext cx="8858160" cy="22003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500720" y="14986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7596360" y="148428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500720" y="2333520"/>
            <a:ext cx="576000" cy="7779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380360" y="227664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1908000" y="4005360"/>
            <a:ext cx="576360" cy="777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5076720" y="4005360"/>
            <a:ext cx="863640" cy="777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244000" y="40053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2109960" y="4826160"/>
            <a:ext cx="576000" cy="777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5076720" y="4811760"/>
            <a:ext cx="935280" cy="777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798040" y="4811760"/>
            <a:ext cx="3315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2360" y="1209600"/>
            <a:ext cx="8639280" cy="4438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7164360" y="3357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195640" y="4551480"/>
            <a:ext cx="158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987640" y="51721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516720" y="5157720"/>
            <a:ext cx="863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0120" y="1328760"/>
            <a:ext cx="7943760" cy="4200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6804000" y="134136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1800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2700360" y="321300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4284720" y="501336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181080" y="966960"/>
            <a:ext cx="8781840" cy="4924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971640" y="4767120"/>
            <a:ext cx="784836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042920" y="5359320"/>
            <a:ext cx="7848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04920" y="1252440"/>
            <a:ext cx="8534160" cy="43531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826920" y="32418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6408720" cy="493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826920" y="4451400"/>
            <a:ext cx="64090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684360" y="5070600"/>
            <a:ext cx="64087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285840" y="1095480"/>
            <a:ext cx="8572320" cy="4667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042920" y="373068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4249800"/>
            <a:ext cx="6408720" cy="4935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69840" y="478152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85840" y="1104840"/>
            <a:ext cx="8572320" cy="46483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900000" y="3774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6048360" cy="493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71640" y="4782960"/>
            <a:ext cx="604836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6913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00160" y="1262160"/>
            <a:ext cx="8743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914400" y="58680"/>
            <a:ext cx="7257960" cy="6794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1042920" y="2824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971640" y="383220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00000" y="436572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826920" y="47671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755640" y="5300640"/>
            <a:ext cx="64818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971640" y="5816520"/>
            <a:ext cx="6481800" cy="493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9"/>
          <a:stretch/>
        </p:blipFill>
        <p:spPr>
          <a:xfrm>
            <a:off x="900000" y="6350040"/>
            <a:ext cx="6481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8:48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